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6.jpeg" ContentType="image/jpeg"/>
  <Override PartName="/ppt/media/image29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28.jpeg" ContentType="image/jpeg"/>
  <Override PartName="/ppt/media/image7.jpeg" ContentType="image/jpeg"/>
  <Override PartName="/ppt/media/image19.jpeg" ContentType="image/jpeg"/>
  <Override PartName="/ppt/media/image12.jpeg" ContentType="image/jpeg"/>
  <Override PartName="/ppt/media/image13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2.png" ContentType="image/png"/>
  <Override PartName="/ppt/media/image24.jpeg" ContentType="image/jpeg"/>
  <Override PartName="/ppt/media/image8.gif" ContentType="image/gif"/>
  <Override PartName="/ppt/media/image18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3849-DEE5-4878-9284-3F120144D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DA85-6CD0-439F-852F-B1C5E3DC8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0822-496D-469E-A5C4-F53BD4125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2117-A3C0-4367-B9EF-E0A5E89FD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CA59-E589-493E-81DD-2E2794BCA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9B7E-7948-49BC-96C7-4FCD4DE1E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6B42-5715-4994-9A9A-FAC301776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B142-42B8-457F-9EA6-C24506B99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9301-5C02-4024-8F1B-EBAEB75C9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55BC-FA65-4A85-89F6-1648B249A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DCB1-9135-415B-B2E2-AFDD9BA63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9941-8272-4A75-8BEA-5B6535682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5FEB3-54FC-4BBB-97F8-10FE560100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faden-quartz-3" descr=""/>
          <p:cNvPicPr/>
          <p:nvPr/>
        </p:nvPicPr>
        <p:blipFill>
          <a:blip r:embed="rId2"/>
          <a:stretch/>
        </p:blipFill>
        <p:spPr>
          <a:xfrm>
            <a:off x="5867280" y="2209680"/>
            <a:ext cx="2857680" cy="4114800"/>
          </a:xfrm>
          <a:prstGeom prst="rect">
            <a:avLst/>
          </a:prstGeom>
          <a:ln w="0">
            <a:noFill/>
          </a:ln>
        </p:spPr>
      </p:pic>
      <p:pic>
        <p:nvPicPr>
          <p:cNvPr id="42" name="images" descr=""/>
          <p:cNvPicPr/>
          <p:nvPr/>
        </p:nvPicPr>
        <p:blipFill>
          <a:blip r:embed="rId3"/>
          <a:stretch/>
        </p:blipFill>
        <p:spPr>
          <a:xfrm>
            <a:off x="762120" y="3733920"/>
            <a:ext cx="2606400" cy="2666880"/>
          </a:xfrm>
          <a:prstGeom prst="rect">
            <a:avLst/>
          </a:prstGeom>
          <a:ln w="0">
            <a:noFill/>
          </a:ln>
        </p:spPr>
      </p:pic>
      <p:pic>
        <p:nvPicPr>
          <p:cNvPr id="43" name="malachite" descr=""/>
          <p:cNvPicPr/>
          <p:nvPr/>
        </p:nvPicPr>
        <p:blipFill>
          <a:blip r:embed="rId4"/>
          <a:stretch/>
        </p:blipFill>
        <p:spPr>
          <a:xfrm>
            <a:off x="5105520" y="304920"/>
            <a:ext cx="2206440" cy="2125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380880" y="228600"/>
            <a:ext cx="4114800" cy="29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 Black"/>
              </a:rPr>
              <a:t>MINERAL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 Black"/>
              <a:ea typeface="Arial Black"/>
            </a:endParaRPr>
          </a:p>
        </p:txBody>
      </p:sp>
      <p:pic>
        <p:nvPicPr>
          <p:cNvPr id="45" name="sulfur" descr=""/>
          <p:cNvPicPr/>
          <p:nvPr/>
        </p:nvPicPr>
        <p:blipFill>
          <a:blip r:embed="rId5"/>
          <a:srcRect l="21112" t="0" r="22224" b="11415"/>
          <a:stretch/>
        </p:blipFill>
        <p:spPr>
          <a:xfrm>
            <a:off x="3200400" y="2133720"/>
            <a:ext cx="28432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ccccff"/>
            </a:gs>
            <a:gs pos="100000">
              <a:srgbClr val="b2b2b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066680" y="1066680"/>
            <a:ext cx="6873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ALLIC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LOOKS LIKE METAL IN THE WAY THE MINERAL REFLECTS LIGHT  (GALENA OR PYRITE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971800" y="228600"/>
            <a:ext cx="2743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USTER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66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0" name="pyrite" descr=""/>
          <p:cNvPicPr/>
          <p:nvPr/>
        </p:nvPicPr>
        <p:blipFill>
          <a:blip r:embed="rId1"/>
          <a:stretch/>
        </p:blipFill>
        <p:spPr>
          <a:xfrm>
            <a:off x="4800600" y="3111480"/>
            <a:ext cx="3278160" cy="2506680"/>
          </a:xfrm>
          <a:prstGeom prst="rect">
            <a:avLst/>
          </a:prstGeom>
          <a:ln w="0">
            <a:noFill/>
          </a:ln>
        </p:spPr>
      </p:pic>
      <p:pic>
        <p:nvPicPr>
          <p:cNvPr id="91" name="galena" descr=""/>
          <p:cNvPicPr/>
          <p:nvPr/>
        </p:nvPicPr>
        <p:blipFill>
          <a:blip r:embed="rId2"/>
          <a:stretch/>
        </p:blipFill>
        <p:spPr>
          <a:xfrm>
            <a:off x="457200" y="3048120"/>
            <a:ext cx="380988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ff9966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066680" y="304920"/>
            <a:ext cx="725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-METALL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DOES NOT LOOK LIKE POLISHED METAL, SO OTHER TERMS ARE US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962520" y="1905120"/>
            <a:ext cx="398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ITREO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SHINY, GLASSLIKE (QUARTZ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quartz" descr=""/>
          <p:cNvPicPr/>
          <p:nvPr/>
        </p:nvPicPr>
        <p:blipFill>
          <a:blip r:embed="rId1"/>
          <a:stretch/>
        </p:blipFill>
        <p:spPr>
          <a:xfrm>
            <a:off x="457200" y="1430280"/>
            <a:ext cx="2895480" cy="19987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80880" y="4572000"/>
            <a:ext cx="4191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EAR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OKS LIKE PEARLS WHEN LIGHT IS REFLECTED OFF OF THE SURFACE (OP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coober" descr=""/>
          <p:cNvPicPr/>
          <p:nvPr/>
        </p:nvPicPr>
        <p:blipFill>
          <a:blip r:embed="rId2"/>
          <a:srcRect l="8071" t="7145" r="7150" b="14246"/>
          <a:stretch/>
        </p:blipFill>
        <p:spPr>
          <a:xfrm>
            <a:off x="4952880" y="3809880"/>
            <a:ext cx="350532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05320" y="2606760"/>
            <a:ext cx="518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ARTH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NO SHINE AT ALL (BAUXITE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5029200"/>
            <a:ext cx="656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DAMANT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BRILLIANT GLOW, BEAM OF LIGHT AT A CERTAIN ANGLE (DIAMON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Bauxite%20Ore_jpg" descr=""/>
          <p:cNvPicPr/>
          <p:nvPr/>
        </p:nvPicPr>
        <p:blipFill>
          <a:blip r:embed="rId1"/>
          <a:stretch/>
        </p:blipFill>
        <p:spPr>
          <a:xfrm>
            <a:off x="304920" y="2340000"/>
            <a:ext cx="2895480" cy="2176560"/>
          </a:xfrm>
          <a:prstGeom prst="rect">
            <a:avLst/>
          </a:prstGeom>
          <a:ln w="0">
            <a:noFill/>
          </a:ln>
        </p:spPr>
      </p:pic>
      <p:pic>
        <p:nvPicPr>
          <p:cNvPr id="100" name="images" descr=""/>
          <p:cNvPicPr/>
          <p:nvPr/>
        </p:nvPicPr>
        <p:blipFill>
          <a:blip r:embed="rId2"/>
          <a:stretch/>
        </p:blipFill>
        <p:spPr>
          <a:xfrm>
            <a:off x="6477120" y="411480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0" y="380880"/>
            <a:ext cx="495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WAX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DULL SHINE LIKE  CANDLE WA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ULFUR, OLIVINE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sulfur" descr=""/>
          <p:cNvPicPr/>
          <p:nvPr/>
        </p:nvPicPr>
        <p:blipFill>
          <a:blip r:embed="rId3"/>
          <a:stretch/>
        </p:blipFill>
        <p:spPr>
          <a:xfrm>
            <a:off x="5334120" y="304920"/>
            <a:ext cx="2819160" cy="2073240"/>
          </a:xfrm>
          <a:prstGeom prst="rect">
            <a:avLst/>
          </a:prstGeom>
          <a:ln w="0">
            <a:noFill/>
          </a:ln>
        </p:spPr>
      </p:pic>
      <p:pic>
        <p:nvPicPr>
          <p:cNvPr id="103" name="rock499" descr=""/>
          <p:cNvPicPr/>
          <p:nvPr/>
        </p:nvPicPr>
        <p:blipFill>
          <a:blip r:embed="rId4"/>
          <a:stretch/>
        </p:blipFill>
        <p:spPr>
          <a:xfrm>
            <a:off x="5334120" y="304920"/>
            <a:ext cx="2819160" cy="21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770040" y="1066680"/>
            <a:ext cx="570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LOR OF A MINERALS POWD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2819520"/>
            <a:ext cx="748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B THE MINERAL AGAINST A STREAK PLATE AND  OBSERVE THE POWDER’S COL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895480" y="228600"/>
            <a:ext cx="25909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TREAK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7" name="images" descr=""/>
          <p:cNvPicPr/>
          <p:nvPr/>
        </p:nvPicPr>
        <p:blipFill>
          <a:blip r:embed="rId2"/>
          <a:stretch/>
        </p:blipFill>
        <p:spPr>
          <a:xfrm>
            <a:off x="3048120" y="3809880"/>
            <a:ext cx="3189240" cy="2768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219320" y="1752480"/>
            <a:ext cx="69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W DO YOU FIND THE STREAK COLOR OF A MINERA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0021"/>
            </a:gs>
            <a:gs pos="50000">
              <a:srgbClr val="e9c5cc"/>
            </a:gs>
            <a:gs pos="100000">
              <a:srgbClr val="a5002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219320" y="1066680"/>
            <a:ext cx="7102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VAGE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ENDENCY OF A MINERAL TO SEPARATE ALONG PLANES OF WEAKN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213372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LANE OF WEAKNESS   BASAL CLEAVAGE  (MIC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62520" y="35812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LANES OF CLEAVAGE AT 90*  (ORTHOCLASE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905120" y="228600"/>
            <a:ext cx="4952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99003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REAKAGE PATTERN</a:t>
            </a:r>
            <a:endParaRPr b="0" lang="en-US" sz="2400" spc="1" strike="noStrike">
              <a:ln w="19080">
                <a:solidFill>
                  <a:srgbClr val="ffffff"/>
                </a:solidFill>
                <a:miter/>
              </a:ln>
              <a:solidFill>
                <a:srgbClr val="99003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45720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Musca~56" descr=""/>
          <p:cNvPicPr/>
          <p:nvPr/>
        </p:nvPicPr>
        <p:blipFill>
          <a:blip r:embed="rId1"/>
          <a:stretch/>
        </p:blipFill>
        <p:spPr>
          <a:xfrm>
            <a:off x="304920" y="3276720"/>
            <a:ext cx="2879640" cy="3279600"/>
          </a:xfrm>
          <a:prstGeom prst="rect">
            <a:avLst/>
          </a:prstGeom>
          <a:ln w="0">
            <a:noFill/>
          </a:ln>
        </p:spPr>
      </p:pic>
      <p:pic>
        <p:nvPicPr>
          <p:cNvPr id="115" name="orthoclase" descr=""/>
          <p:cNvPicPr/>
          <p:nvPr/>
        </p:nvPicPr>
        <p:blipFill>
          <a:blip r:embed="rId2"/>
          <a:srcRect l="0" t="25203" r="0" b="0"/>
          <a:stretch/>
        </p:blipFill>
        <p:spPr>
          <a:xfrm>
            <a:off x="4876920" y="4648320"/>
            <a:ext cx="31240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6c7f"/>
            </a:gs>
            <a:gs pos="100000">
              <a:srgbClr val="a5002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44440" y="685800"/>
            <a:ext cx="86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 PLANES OF WEAKNESS AT 90* = CUBIC  (HALITE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3840" y="3505320"/>
            <a:ext cx="891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 PLANES NOT AT 90* = RHOMBOHEDRAL (CALCITE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Calcite1" descr=""/>
          <p:cNvPicPr/>
          <p:nvPr/>
        </p:nvPicPr>
        <p:blipFill>
          <a:blip r:embed="rId1"/>
          <a:stretch/>
        </p:blipFill>
        <p:spPr>
          <a:xfrm>
            <a:off x="2743200" y="4114800"/>
            <a:ext cx="3238560" cy="2428920"/>
          </a:xfrm>
          <a:prstGeom prst="rect">
            <a:avLst/>
          </a:prstGeom>
          <a:ln w="0">
            <a:noFill/>
          </a:ln>
        </p:spPr>
      </p:pic>
      <p:pic>
        <p:nvPicPr>
          <p:cNvPr id="119" name="halite" descr=""/>
          <p:cNvPicPr/>
          <p:nvPr/>
        </p:nvPicPr>
        <p:blipFill>
          <a:blip r:embed="rId2"/>
          <a:stretch/>
        </p:blipFill>
        <p:spPr>
          <a:xfrm>
            <a:off x="2590920" y="1295280"/>
            <a:ext cx="35049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99"/>
            </a:gs>
            <a:gs pos="50000">
              <a:srgbClr val="efc3e0"/>
            </a:gs>
            <a:gs pos="100000">
              <a:srgbClr val="cc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762120" y="685800"/>
            <a:ext cx="75596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CTURE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O PLANES OF WEAKNESS SO THE MINERAL BREAKS ALONG IRREGULAR SURFA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205740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NCHOID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SURFACES ARE SOMEW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NDED, SHELL-LIKE (QUARTZ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Conchoidal%20fracture" descr=""/>
          <p:cNvPicPr/>
          <p:nvPr/>
        </p:nvPicPr>
        <p:blipFill>
          <a:blip r:embed="rId1"/>
          <a:srcRect l="4213" t="19664" r="0" b="0"/>
          <a:stretch/>
        </p:blipFill>
        <p:spPr>
          <a:xfrm>
            <a:off x="1371600" y="3276720"/>
            <a:ext cx="5197320" cy="32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b7da"/>
            </a:gs>
            <a:gs pos="50000">
              <a:srgbClr val="cc3399"/>
            </a:gs>
            <a:gs pos="100000">
              <a:srgbClr val="ecb7d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57200" y="60948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EV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ROUGH SURFACE, NO DISTINGUISH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TE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000" y="3809880"/>
            <a:ext cx="91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IBRO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JAGGED SURFACE LIKE FIBERS (WOLLASTONITE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OlivineDunite" descr=""/>
          <p:cNvPicPr/>
          <p:nvPr/>
        </p:nvPicPr>
        <p:blipFill>
          <a:blip r:embed="rId1"/>
          <a:stretch/>
        </p:blipFill>
        <p:spPr>
          <a:xfrm>
            <a:off x="2590920" y="1219320"/>
            <a:ext cx="3367080" cy="2525760"/>
          </a:xfrm>
          <a:prstGeom prst="rect">
            <a:avLst/>
          </a:prstGeom>
          <a:ln w="0">
            <a:noFill/>
          </a:ln>
        </p:spPr>
      </p:pic>
      <p:pic>
        <p:nvPicPr>
          <p:cNvPr id="126" name="wollast1" descr=""/>
          <p:cNvPicPr/>
          <p:nvPr/>
        </p:nvPicPr>
        <p:blipFill>
          <a:blip r:embed="rId2"/>
          <a:srcRect l="6254" t="16665" r="6254" b="5551"/>
          <a:stretch/>
        </p:blipFill>
        <p:spPr>
          <a:xfrm>
            <a:off x="2743200" y="4343400"/>
            <a:ext cx="32004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33520" y="14479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ISTANCE TO BE SCRATCHED; IS VERY USEFUL SINCE A MINERAL’S HARDNESS IS CONSTA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666880" y="380880"/>
            <a:ext cx="312444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ardnes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251460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LE TO MEASURE HARDNESS WAS DEVELOPED BY FRIEDRICH MOH IN 18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3505320"/>
            <a:ext cx="66294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DNESS IS MEASURED ON A SCALE FRO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ING THE LOWEST T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ING THE HIGH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5029200"/>
            <a:ext cx="748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DETERMINE THE HARDNESS OF A MINERAL YOU MUST TRY TO SCRATCH THE  MINERAL AGAINST A GLASS P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-2520" y="1447920"/>
            <a:ext cx="263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FINGERNAIL IS A 2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-1800" y="3276720"/>
            <a:ext cx="191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GLASS IS A 5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91440" y="533520"/>
            <a:ext cx="43668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666880" y="533520"/>
            <a:ext cx="6477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L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LCUM POWDER, BABY POWD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89480" y="1066680"/>
            <a:ext cx="649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YPS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ING MATERIALS (SHEETROC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16400" y="1676520"/>
            <a:ext cx="37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IT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514600" y="22860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UORI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OTHPAS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590920" y="28954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ATI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FERTILIZ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590920" y="350532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LDSPA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OOR T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666880" y="41148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RT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TCHES, ABRAS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666880" y="47242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AZ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MSTONES (EMERAL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90920" y="533412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UNDUM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MSTONES (RUBY &amp; SAPHIRE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590920" y="59436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MOND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AW BLADES, “AGIRL’S BEST FRIEND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0" y="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INERAL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YPICAL 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74880" y="1031760"/>
            <a:ext cx="748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ERALS ARE MADE UP OF SINGLE ELEMENTS OR COMPOU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9040" y="2362320"/>
            <a:ext cx="194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498760" y="2327400"/>
            <a:ext cx="573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UBSTANCE THAT CANNOT BE BROKEN DOWN TO ANY SIMPLER SUBST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29760" y="3886200"/>
            <a:ext cx="880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GHT MOST COMMON ELEMENTS IN THE EARTH’S CRUS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19040" y="4648320"/>
            <a:ext cx="83059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) OXYGEN   46%         3-8.)THE REMAINING 25% IS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SED OF Al, Fe, Ca, Na, K, M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) SILICON   29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14760" y="914400"/>
            <a:ext cx="324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MINERAL I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45640" y="1981080"/>
            <a:ext cx="43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) NATURALLY OCCUR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44560" y="2666880"/>
            <a:ext cx="585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) DEFINITE CHEMICAL COMPOSI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43480" y="3352680"/>
            <a:ext cx="334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) INORGANIC SOL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43480" y="4191120"/>
            <a:ext cx="45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) CRYSTALLINE STRUCT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4876920"/>
            <a:ext cx="813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) DEFINITE SET OF CHEMICAL AND PHYSICAL PROPERT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732680" y="380880"/>
            <a:ext cx="562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slonOpnface BT"/>
                <a:ea typeface="Times New Roman"/>
              </a:rPr>
              <a:t>FAMILIES OF MINERA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16680" y="1397160"/>
            <a:ext cx="847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ive Miner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COMPOSED OF SINGLE ELEMENT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9360" y="2133720"/>
            <a:ext cx="299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 (aurum)       G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4920" y="2895480"/>
            <a:ext cx="34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 (argentium)    SIL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2286000"/>
            <a:ext cx="83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2680" y="3657600"/>
            <a:ext cx="335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 (cuprum)      COP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61160" y="4495680"/>
            <a:ext cx="32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                      SULF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64760" y="5181480"/>
            <a:ext cx="49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             GRAPHITE OR DIAM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images" descr=""/>
          <p:cNvPicPr/>
          <p:nvPr/>
        </p:nvPicPr>
        <p:blipFill>
          <a:blip r:embed="rId2"/>
          <a:stretch/>
        </p:blipFill>
        <p:spPr>
          <a:xfrm>
            <a:off x="4648320" y="2155680"/>
            <a:ext cx="2133360" cy="1930680"/>
          </a:xfrm>
          <a:prstGeom prst="rect">
            <a:avLst/>
          </a:prstGeom>
          <a:ln w="0">
            <a:noFill/>
          </a:ln>
        </p:spPr>
      </p:pic>
      <p:pic>
        <p:nvPicPr>
          <p:cNvPr id="66" name="rotating_diamond" descr=""/>
          <p:cNvPicPr/>
          <p:nvPr/>
        </p:nvPicPr>
        <p:blipFill>
          <a:blip r:embed="rId3"/>
          <a:stretch/>
        </p:blipFill>
        <p:spPr>
          <a:xfrm>
            <a:off x="5943600" y="4191120"/>
            <a:ext cx="2819520" cy="21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85800" y="533520"/>
            <a:ext cx="733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 MINERALS ARE COMPOSED OF TWO OR MORE ELEME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30000" y="2209680"/>
            <a:ext cx="304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LITE (NaC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images" descr=""/>
          <p:cNvPicPr/>
          <p:nvPr/>
        </p:nvPicPr>
        <p:blipFill>
          <a:blip r:embed="rId2"/>
          <a:stretch/>
        </p:blipFill>
        <p:spPr>
          <a:xfrm>
            <a:off x="4876920" y="1600200"/>
            <a:ext cx="2501640" cy="23637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580200" y="5029200"/>
            <a:ext cx="315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ARTZ (SiO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images" descr=""/>
          <p:cNvPicPr/>
          <p:nvPr/>
        </p:nvPicPr>
        <p:blipFill>
          <a:blip r:embed="rId3"/>
          <a:stretch/>
        </p:blipFill>
        <p:spPr>
          <a:xfrm>
            <a:off x="1066680" y="3733920"/>
            <a:ext cx="219564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127160" y="1717560"/>
            <a:ext cx="771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YGEN AND SILICON COMBINE READILY WITH EACH OTHER AND WITH OTHER ELEMENTS TO FORM THIS FAMILY OF MINER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50840" y="3165480"/>
            <a:ext cx="786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 COMMON FAMILY OF MINERALS AND MAKE UP OVER 90% OF ALL MINER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50840" y="4308480"/>
            <a:ext cx="778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BECAUSE OXYGEN AND SILICON ARE THE MOST COMMON ELEMENTS IN THE EARTH’S CRU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743200" y="457200"/>
            <a:ext cx="365760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ILICATES</a:t>
            </a:r>
            <a:endParaRPr b="0" lang="en-US" sz="2400" spc="1" strike="noStrike">
              <a:ln w="1908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838080" y="106668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ANY MINERAL WHICH IS A SILICATE MUST CONTAIN Si (SILICON) AND O (OXYGEN) IN THEIR CHEMICAL FORMU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3520" y="281952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W CIRCLE ALL OF THE MINERALS ON YOUR NOTESHEET WHICH ARE SILIC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52600" y="3962520"/>
            <a:ext cx="5086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THOCLASE                      AUG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RTZ                                OLIV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OT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66ff66"/>
            </a:gs>
            <a:gs pos="100000">
              <a:srgbClr val="ff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09480" y="2057400"/>
            <a:ext cx="853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PHYSICAL PROPERTIES OF MINERALS ARE A REFLECTION OF THE INTERNAL ARRANGEMENT OF THEIR A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057400" y="609480"/>
            <a:ext cx="44956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HYSICAL PROPERTIES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1" name="e2_1" descr="Perovskite icon"/>
          <p:cNvPicPr/>
          <p:nvPr/>
        </p:nvPicPr>
        <p:blipFill>
          <a:blip r:embed="rId1"/>
          <a:stretch/>
        </p:blipFill>
        <p:spPr>
          <a:xfrm>
            <a:off x="3200400" y="3886200"/>
            <a:ext cx="2179800" cy="19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1219320"/>
            <a:ext cx="679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ST USEFUL PROPERTY, CHANGE IN THE CHEMICAL FORMULA WILL VARY THE COLOR OF THE MINERAL. (QUARTZ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O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124080" y="380880"/>
            <a:ext cx="2314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LOR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4" name="Rosenquarz" descr="Rose quartz"/>
          <p:cNvPicPr/>
          <p:nvPr/>
        </p:nvPicPr>
        <p:blipFill>
          <a:blip r:embed="rId1"/>
          <a:stretch/>
        </p:blipFill>
        <p:spPr>
          <a:xfrm>
            <a:off x="4572000" y="3809880"/>
            <a:ext cx="4114800" cy="25146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343400" y="2895480"/>
            <a:ext cx="4800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OSE QUART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AINS TITANIUM OXIDE AND MANGANESE OXIDE TO MAKE A ROSE COL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quartz-corchia2" descr=""/>
          <p:cNvPicPr/>
          <p:nvPr/>
        </p:nvPicPr>
        <p:blipFill>
          <a:blip r:embed="rId2"/>
          <a:stretch/>
        </p:blipFill>
        <p:spPr>
          <a:xfrm>
            <a:off x="304920" y="3886200"/>
            <a:ext cx="3809880" cy="23065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838080" y="3048120"/>
            <a:ext cx="24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YSTAL QUART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3:12:26Z</dcterms:created>
  <dc:creator>Joe</dc:creator>
  <dc:description/>
  <dc:language>en-US</dc:language>
  <cp:lastModifiedBy>Lakeland</cp:lastModifiedBy>
  <dcterms:modified xsi:type="dcterms:W3CDTF">2007-10-29T16:16:57Z</dcterms:modified>
  <cp:revision>34</cp:revision>
  <dc:subject/>
  <dc:title>PowerPoint Presentation</dc:title>
</cp:coreProperties>
</file>